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188-424E-4739-AC88-E3B90FFC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907-EF5F-4489-814C-3CE0A71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963-E0E8-452C-A1D4-B30E8DBB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71B-67C6-4F73-BAAD-55C015C9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9B5F-FB5C-42F2-8E94-DD4C8379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618E-40B1-4A54-91EF-0F49F5F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A39C-CC1C-45A4-81A8-83564A20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A68-281B-48DB-8AE1-EBE2B46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87FE-E106-4B87-B665-0AAE992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61CA-C533-4A54-B69B-129EA518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20A-D265-4BF5-8E62-ADD6C74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C97-32AE-4E5D-80C5-29E2A900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5613-3EC4-4186-B1C1-FF85F46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830A-681A-4962-93E9-DBC0F7F7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FC84-D08A-43AE-935D-E2E356D2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6A2C-365F-4E2E-894E-3923C48C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48BF-EE86-4619-B25C-CC830751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CCCA-CE1D-4571-9BE8-F9D04081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8BC7-0138-4A32-BCD3-58C225EB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0A7A-D155-42FA-94FA-CB8159E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E6EE-27B4-4F36-ABC1-BCC27E4F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CCBD-746C-4938-97FA-630DB3C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2EF-8337-47CD-89E8-C9A29675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1F37-86BC-4ACD-A4C3-7E4E626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438B-5AC3-4052-9E78-9E4D587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53E7-369E-45A8-B170-2D06AD2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A744-F0BF-4344-8892-81DCADB5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D46E-B269-4F8D-9ADF-1E9238B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5681-EF8C-4E9A-AED7-751DBD38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B8C0-3104-4B57-938D-2ECD7D38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DE73-7B10-492B-8B31-CE1C593A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6064-137C-4B94-B9AB-B0DB6E42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31C9-120F-4866-9384-753D6606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750-2CE7-4B77-B80F-82BE783F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7263-C5EC-4F25-916B-252FB9DA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FD9E-5142-45AF-83E3-3B8F521E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67BB-3ACA-4FFD-A0B6-A761475C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302A-9085-438D-9301-CDE0B691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FF7F-B21D-4A65-8E13-8EC05228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DBD5-D86B-4A69-805F-A39575C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3AAD-D297-46E7-BCBF-47013B3A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AE11-2352-4C29-940E-CBFFF187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B665-E72A-4543-A82D-C9065380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4437-5BD7-4357-8242-2FAD3EE9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98F-9136-40EC-ABBE-B90DAA0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4D3FA-E103-48D6-8588-8D5D324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E7CD-9483-42D6-A10F-37442884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4147-2743-4F82-B1DB-43455A56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AF5B2-9DED-42FB-80F3-98039FE6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180B-1A8D-4A88-A38E-100CB656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0733-AAC3-4F64-A86E-082645D9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7276-8CC1-4649-B6CF-5281126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B945D-06D5-462B-BD70-BE144E3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C6DF-0660-4338-8BE5-38A6DAF1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5364F-CE16-471E-B52A-E84A1BCA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982-556E-429F-9557-ACA3C64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4B995-FBE6-4105-B1A9-9FC59A3D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D468-C613-4D7F-9FC3-7713AE10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296F-912E-4912-9B5B-B762A85C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8D703-98BF-41BD-8F60-3F4663A6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0A39D-8EC5-479C-A4AB-64FDC4A5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8612-7483-4EB6-9633-E9B590F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CA6E-EF2E-48BD-89BC-1DF92DE1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76591-1C3A-42FC-943F-70E35B4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5926-ED17-4FB5-8975-A42BE564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FEAF4-DB77-446C-B211-E56C2B8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2CF-8F84-4C36-91F0-B617352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541AF-271F-4565-B36D-0A8640C5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63BE5-942B-47F8-B7EB-887355B6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EFE27-9E37-4364-B952-CCDE0644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6FC56-2F1A-4AFF-9042-B97C78B3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FB294-7EE3-44F5-93B9-480491AC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9AE7-09D6-4FFF-A126-CC2E25D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F2CF-5BC6-4341-B540-CA2B3BA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0481-8F6A-4EEA-8979-915311F1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C6872-B7F3-4DFB-AF7A-24DDDE9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AD1D-15A9-41FC-8037-F1BC715F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103-8707-4E53-BB77-E47FF19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16503-80BA-4E47-A34C-6D475049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EB4A0-3723-4A8D-A702-43057F14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D2A6-2762-4720-AD2B-0A4BFF9A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C04A6-9896-48A0-8696-8B75C7EC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7875-37F3-44AE-8BFE-80D7AC05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2EF-5E70-44B4-B8D4-AA2EB341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F334-D32A-44D0-862A-EB3880ECAF1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CDB-8174-4EF0-AB15-016A8164846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A45B-1AD4-4893-AC0E-5FCCC22FE3C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2AE5-9D32-480B-9F43-4857C669F2E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1A6C-9F40-4A63-BBD8-16746385F92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3F15-9A59-4524-800B-9D83938CB63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C2E-17AA-4007-BFE2-E71137C06C5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189080"/>
            <a:ext cx="8010360" cy="15843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mo on FPGA PC communic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rch 8,201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33440" y="685800"/>
            <a:ext cx="8710560" cy="48625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15480" y="5715000"/>
            <a:ext cx="96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you click Ok it will redirect you to select the .bit fil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already generate on slide 6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1187640" y="5715000"/>
            <a:ext cx="58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lect Your .bit file and click Op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" descr=""/>
          <p:cNvPicPr/>
          <p:nvPr/>
        </p:nvPicPr>
        <p:blipFill>
          <a:blip r:embed="rId1"/>
          <a:srcRect l="0" t="0" r="0" b="22469"/>
          <a:stretch/>
        </p:blipFill>
        <p:spPr>
          <a:xfrm>
            <a:off x="533520" y="609480"/>
            <a:ext cx="8343720" cy="33530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5"/>
          <p:cNvSpPr/>
          <p:nvPr/>
        </p:nvSpPr>
        <p:spPr>
          <a:xfrm>
            <a:off x="62280" y="4114800"/>
            <a:ext cx="978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w select the chip and right click then</a:t>
            </a:r>
            <a:r>
              <a:rPr b="1" lang="en-US" sz="2800" spc="-1" strike="noStrike">
                <a:solidFill>
                  <a:srgbClr val="750b3d"/>
                </a:solidFill>
                <a:latin typeface="Corbel"/>
              </a:rPr>
              <a:t> program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 the coming window select the deice and click </a:t>
            </a: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o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w you have done all , copy the</a:t>
            </a: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 .xsvf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le to the director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C:\makestuff\libs\gen_xsvf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Note:</a:t>
            </a: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w folder gen_xsv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762120" y="5067360"/>
            <a:ext cx="378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Testing and validation of the overall host-FPGA syste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Connect and power-on the Atlys board if not alread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Start a terminal by launching Console 2. We’ll use th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 on the host side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Us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 to program the FPGA. In the Console 2 terminal, do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</a:t>
            </a:r>
            <a:r>
              <a:rPr b="0" lang="en-US" sz="3000" spc="-1" strike="noStrike">
                <a:solidFill>
                  <a:srgbClr val="00b0f0"/>
                </a:solidFill>
                <a:latin typeface="Corbel"/>
              </a:rPr>
              <a:t>cd libs/libfpgalink-20120621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</a:t>
            </a:r>
            <a:r>
              <a:rPr b="0" lang="en-US" sz="3000" spc="-1" strike="noStrike">
                <a:solidFill>
                  <a:srgbClr val="00b0f0"/>
                </a:solidFill>
                <a:latin typeface="Corbel"/>
              </a:rPr>
              <a:t>./win32/rel/flcli -v 1443:0007 -i 1443:0007 -s -x gen_xsvf/mydemo.xsvf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380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Us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 to connect to the FPGALink device 1443:0007 (that is the USB controller on the Atlys board)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orbel"/>
              </a:rPr>
              <a:t>&gt; ./win32/rel/flcli -v 1443:0007 -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ich enters the command-line mode, where we can use th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’s built-in functions to write and read the registers we have created on the FPGA. For example, try thi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990720" y="4572000"/>
            <a:ext cx="71625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&gt; w0 37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observe the  LEDs on the boar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 |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0011  0111  Five LEDs toggle to ON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1143000" y="762120"/>
            <a:ext cx="7467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ead the status of the slide switches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0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rite into R1 and R2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w1 02;w2 03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1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3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everything went OK, your Console 2 window should look like in Fig.4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Quit the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flcli utility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&gt; q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an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Important Files for this Demo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kestuff-windows-2013071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bfpgalink-20120621.ta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busb-win32-bin-1.2.6.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[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onsole-2.00b148-Beta_32bit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[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icrosoft  Visual Studio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 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Steps for Working environment setup Demo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Download and install </a:t>
            </a:r>
            <a:r>
              <a:rPr b="1" lang="en-US" sz="1900" spc="-1" strike="noStrike">
                <a:solidFill>
                  <a:srgbClr val="007eea"/>
                </a:solidFill>
                <a:latin typeface="Corbel"/>
              </a:rPr>
              <a:t>Visual C++ Express 2010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f6d19"/>
                </a:solidFill>
                <a:latin typeface="Corbel"/>
              </a:rPr>
              <a:t>         </a:t>
            </a:r>
            <a:r>
              <a:rPr b="0" lang="en-US" sz="1900" spc="-1" strike="noStrike">
                <a:solidFill>
                  <a:srgbClr val="3f6d19"/>
                </a:solidFill>
                <a:latin typeface="Corbel"/>
              </a:rPr>
              <a:t>http://www.microsoft.com/visualstudio/en-us/products/2010- editions/express#Visual_Studio_2010_Express_Download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2.  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ownload and install </a:t>
            </a:r>
            <a:r>
              <a:rPr b="1" lang="en-US" sz="1800" spc="-1" strike="noStrike">
                <a:solidFill>
                  <a:srgbClr val="007eea"/>
                </a:solidFill>
                <a:latin typeface="Corbel"/>
              </a:rPr>
              <a:t>Microsoft Visual C++ 2010 Redistributable Package (x86)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http://www.microsoft.com/en-us/download/details.aspx?id=5555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Download "</a:t>
            </a:r>
            <a:r>
              <a:rPr b="1" lang="en-US" sz="1900" spc="-1" strike="noStrike">
                <a:solidFill>
                  <a:srgbClr val="007eea"/>
                </a:solidFill>
                <a:latin typeface="Corbel"/>
              </a:rPr>
              <a:t>Build Infrastructure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", windows version. This is the environment where we’ll work with the FPGALink library binaries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ttp://www.makestuff.eu/wordpress/software/build-infrastructure/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On windows, unpack the downloaded archive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</a:rPr>
              <a:t>               </a:t>
            </a:r>
            <a:r>
              <a:rPr b="1" lang="en-US" sz="1900" spc="-1" strike="noStrike">
                <a:solidFill>
                  <a:srgbClr val="ff0000"/>
                </a:solidFill>
                <a:latin typeface="Corbel"/>
              </a:rPr>
              <a:t>makestuff-win32-20111211.zip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in your own directory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In my case, I did this directly in C:\. This created C:\makestuff\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0492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4. Download the latest FPGALink library binaries (at the time of writing this lab, the latest version is "</a:t>
            </a:r>
            <a:r>
              <a:rPr b="1" lang="en-US" sz="2800" spc="-1" strike="noStrike">
                <a:solidFill>
                  <a:srgbClr val="61b6ff"/>
                </a:solidFill>
                <a:latin typeface="Corbel"/>
              </a:rPr>
              <a:t>libfpgalink-20120621.tar.gz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ttp://www.makestuff.eu/wordpress/software/fpgalink/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npack it in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C:\makestuff\libs\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 Download and install "</a:t>
            </a:r>
            <a:r>
              <a:rPr b="1" lang="en-US" sz="2800" spc="-1" strike="noStrike">
                <a:solidFill>
                  <a:srgbClr val="61b6ff"/>
                </a:solidFill>
                <a:latin typeface="Corbel"/>
              </a:rPr>
              <a:t>Console 2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ttp://sourceforge.net/projects/consol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npack the downloaded archive directly in   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C:\Program Files\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1 Create shortcut to C:\Program Files\Console2\Console.ex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2 Launch Console 2 and enter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:\makestuff\msys\bin\sh.exe --login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the "Shell" and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:\makestuff\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 startup dir box at </a:t>
            </a:r>
            <a:r>
              <a:rPr b="1" i="1" lang="en-US" sz="2000" spc="-1" strike="noStrike">
                <a:solidFill>
                  <a:srgbClr val="00b050"/>
                </a:solidFill>
                <a:latin typeface="Corbel"/>
              </a:rPr>
              <a:t>Edit-&gt;Settings-&gt;Consol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6. Download “</a:t>
            </a:r>
            <a:r>
              <a:rPr b="1" lang="en-US" sz="3000" spc="-1" strike="noStrike">
                <a:solidFill>
                  <a:srgbClr val="61b6ff"/>
                </a:solidFill>
                <a:latin typeface="Corbel"/>
              </a:rPr>
              <a:t>LibUSB-Win3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”. 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   http://sourceforge.net/projects/libusb-win32/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lug in the Atlys board and turn the power on. Then run 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</a:rPr>
              <a:t>bin/inf-wizard.exe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Nex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, select your FPGA board, make a note (in our case, the Atlys board, that is 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1443, 0007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) of the vendor and product IDs and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Nex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 twice. Choose a location for the driver and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Save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.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Install No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VHDL coding and .xsvf programming file generation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eate ISE project suppose “Lab8”. Now add Copy of Source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les Lis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top_level.vhd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omm_fpga_fx2.vhdl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op_level.ucf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Create a .bit by double click on Generate Programming Fi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8289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Creating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.xsvf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ide ISE  project Navigator, select </a:t>
            </a:r>
            <a:r>
              <a:rPr b="0" lang="en-US" sz="3000" spc="-1" strike="noStrike">
                <a:solidFill>
                  <a:srgbClr val="b0105c"/>
                </a:solidFill>
                <a:latin typeface="Corbel"/>
              </a:rPr>
              <a:t>Tools-&gt;iMPA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ISE iMPACT window should pop-up after a few secon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uble click on “</a:t>
            </a:r>
            <a:r>
              <a:rPr b="0" lang="en-US" sz="3000" spc="-1" strike="noStrike">
                <a:solidFill>
                  <a:srgbClr val="b0105c"/>
                </a:solidFill>
                <a:latin typeface="Corbel"/>
              </a:rPr>
              <a:t>Boundary Sca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” and then right  click at the white space as in the picture in the next slide and follow the pictu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iMPACT.png"/>
          <p:cNvPicPr/>
          <p:nvPr/>
        </p:nvPicPr>
        <p:blipFill>
          <a:blip r:embed="rId1"/>
          <a:stretch/>
        </p:blipFill>
        <p:spPr>
          <a:xfrm>
            <a:off x="609480" y="533520"/>
            <a:ext cx="8398080" cy="46479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-32040" y="5638680"/>
            <a:ext cx="97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w give the file name and the directory where your xsv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le to be saved then click </a:t>
            </a:r>
            <a:r>
              <a:rPr b="0" lang="en-US" sz="2800" spc="-1" strike="noStrike">
                <a:solidFill>
                  <a:srgbClr val="b0105c"/>
                </a:solidFill>
                <a:latin typeface="Corbel"/>
              </a:rPr>
              <a:t>save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23:22:38Z</dcterms:created>
  <dc:creator>zinabu</dc:creator>
  <dc:description/>
  <dc:language>en-US</dc:language>
  <cp:lastModifiedBy>zinabu</cp:lastModifiedBy>
  <dcterms:modified xsi:type="dcterms:W3CDTF">2014-03-08T17:14:34Z</dcterms:modified>
  <cp:revision>49</cp:revision>
  <dc:subject/>
  <dc:title>Hardware Lab</dc:title>
</cp:coreProperties>
</file>