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6EA-6D40-453B-9CB4-D1BF80BC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414-0DF8-4C49-B29D-F71E36C6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EA9-8DC5-4691-9A8E-0CA0EEB0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CB6-F8AD-4477-AF85-3E734C6A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DCF9-D463-4B34-99CD-8E62CC27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F1F2-F8E2-4590-A372-CD6D36B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5D05-3755-4FF0-ABE2-7A4E341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963-F1AD-4A7F-A8C6-7BA7ECD1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CBF0-6382-43E0-BBF3-C3734C8B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FEA-719E-4E48-91D2-C4BD1C1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5B2E-4F08-4769-8BCE-4425F26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52B-D129-40F2-AF35-41D0D79A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DF2B-80A0-43EE-BB03-0901B59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7C00-37B9-4406-8D42-4EF4042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C99B-B725-4268-B49C-E0D442E7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4DE-A441-4288-A0B0-1963AF8C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5BB-AC44-4C13-B93B-6B509F3C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E3E3-3247-48C4-AAE2-3FA6DB0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6D87-7484-491D-83C4-AE7FB41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7ECF-2593-48B3-86EF-019E8AD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F943-3500-4BB5-87B7-606ED58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439E-52E3-4E5A-8ECD-3DE223B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E3B-A8B1-4A9A-B5C7-31A06F39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EE5F-CBE4-47A3-AC47-5C7C416C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D430-8439-4510-B3DC-194C8AA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D6CE-4FBF-458F-B50D-B0744A9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B2F3-4A65-4DEC-AC14-578ADB6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BE41-CA67-4959-98C5-61FB705D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F11C-5FDA-4F68-BA1B-DF7020EC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BE7C-ACE2-4364-8376-70FA1217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1FE8-5771-43ED-8A02-58098DF4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4F98-01F7-4441-A6CA-7CCC1AF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4189-B937-44DF-9AF5-EE4C9D5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569-1EB5-4D3C-9024-3A8DBA1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70A3-7FB2-41F1-9CBA-882C9DF9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0D68-117C-4D0A-BE35-986E24F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9563-B7A4-49DD-9652-E595EF26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C709-6F7A-43A1-B8CB-46A19F0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70F8-72A1-4259-83E3-605ED05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BD2B-2B4B-4217-9DC9-A707ABB5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79C9-1C3F-4736-A056-86954FB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2E41C-7B86-4B4B-8348-6230E45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EBE5-8172-467F-9F18-C3D701A2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64721-E8BE-44D0-B7B6-68C67AAC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B16-965D-41F5-82C0-3EFF8B83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0D27-EC5C-49C1-84E8-7EEBC01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BB46-F902-44F7-BCAA-A3F93EF9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C1F8-3F9C-486B-B9FB-B0BEB6AC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60B1-B763-467A-91CE-19AD740D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CDCE-CCBD-4460-A649-F87AED8B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D859-9125-4F53-9072-E4E995B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9226-8B5B-46AA-9DCC-7D45650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3660-6BC2-4011-A1AD-137CB73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6CB2-0FAD-484A-861E-715E12B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CE3A-1E29-44FA-92FB-8C9C48D2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A77-4879-450A-92FA-F30FF2C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ABFB-6C64-4C45-9203-B7025F3D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B187-77B6-4ACA-B962-60830922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A9C9-6C84-4924-A03C-B52297D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2A9E-CD18-40A6-968A-3678D3C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1ECD-6499-40F6-A31B-8C728A7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2A2E-895D-43AA-B3FC-2474530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C22C-6BC4-4A61-A854-8AC6C51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E2291-453F-4576-8712-73DA3F9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4B50-7BA3-472A-BB95-176AD08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0B211-21BF-49C2-A425-C672EB9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68E-56B8-4099-81B8-5C43C325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6499-B48A-49C7-BDFC-84E22DE7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8D63-A9AE-4962-BC76-6902DFA5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564B-A8E8-4DC6-891F-88952C6D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BA8E-C6F0-4ADB-BFE8-8225E001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55E4-3F15-4DD2-8EEE-199CE6B5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513D0-0B34-474A-8D7D-C95C1D0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D603-79E6-4C88-86FC-63E0062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1CFD0-6EA1-4D9B-8F66-7FFE1D9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29B3-12F8-4632-94E0-DAA8185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36D6-BEC2-43ED-82D3-3F8FAE7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2B8-9824-447A-9674-3EF61C2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FAB4-9864-482D-9106-EAFEA87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105AC-DD81-4296-884D-7B817DA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6548-1E0F-402D-B38C-69C657F8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035A0-9E05-4F6A-AB49-28405FCC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EEAF-FEC2-43CC-904C-8CA53D8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7B4-A6D2-4247-9E30-F33B8AC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8FF-E62A-486F-86E5-D0574D77E90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4E6-5A09-4079-9871-5E96E0E2C8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0B4-F86F-4482-BE2C-12A0EAE9A1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BD7-2E4A-482A-9B45-3C549C66AE8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8680-C62E-4451-9547-DF086B216F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F1C6-46A3-4F35-AA6A-AC980F930D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062-8938-49A2-9C64-EEFC6743C4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189080"/>
            <a:ext cx="8010360" cy="1584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mo on FPGA PC communic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rch 8,201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33440" y="685800"/>
            <a:ext cx="8710560" cy="48625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5480" y="5715000"/>
            <a:ext cx="96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you click Ok it will redirect you to select the .bit fi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already generate on slide 6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1187640" y="5715000"/>
            <a:ext cx="58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lect Your .bit file and click Op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"/>
          <p:cNvPicPr/>
          <p:nvPr/>
        </p:nvPicPr>
        <p:blipFill>
          <a:blip r:embed="rId1"/>
          <a:srcRect l="0" t="0" r="0" b="22469"/>
          <a:stretch/>
        </p:blipFill>
        <p:spPr>
          <a:xfrm>
            <a:off x="533520" y="609480"/>
            <a:ext cx="8343720" cy="33530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62280" y="4114800"/>
            <a:ext cx="978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select the chip and right click then</a:t>
            </a:r>
            <a:r>
              <a:rPr b="1" lang="en-US" sz="2800" spc="-1" strike="noStrike">
                <a:solidFill>
                  <a:srgbClr val="750b3d"/>
                </a:solidFill>
                <a:latin typeface="Corbel"/>
              </a:rPr>
              <a:t> program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 the coming window select the deice and click 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o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you have done all , copy the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 .xsvf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 to the director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C:\makestuff\libs\gen_xsvf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Note:</a:t>
            </a:r>
            <a:r>
              <a:rPr b="0" lang="en-US" sz="2800" spc="-1" strike="noStrike">
                <a:solidFill>
                  <a:srgbClr val="750b3d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w folder gen_xsv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762120" y="5067360"/>
            <a:ext cx="378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Testing and validation of the overall host-FPGA syste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Connect and power-on the Atlys board if not alread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Start a terminal by launching Console 2. We’ll use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on the host side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Us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to program the FPGA. In the Console 2 terminal, d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</a:t>
            </a: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cd libs/libfpgalink-20120621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</a:t>
            </a: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./win32/rel/flcli -v 1443:0007 -i 1443:0007 -s -x gen_xsvf/mydemo.xsvf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Us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 to connect to the FPGALink device 1443:0007 (that is the USB controller on the Atlys board)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orbel"/>
              </a:rPr>
              <a:t>&gt; ./win32/rel/flcli -v 1443:0007 -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ich enters the command-line mode, where we can use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lcli utility’s built-in functions to write and read the registers we have created on the FPGA. For example, try thi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990720" y="4572000"/>
            <a:ext cx="71625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&gt; w0 37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observe the  LEDs on the boar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 |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0011  0111  Five LEDs toggle to ON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1143000" y="762120"/>
            <a:ext cx="7467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ad the status of the slide switches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0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rite into R1 and R2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w1 02;w2 03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&gt; r3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everything went OK, your Console 2 window should look like in Fig.4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Quit the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flcli utility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&gt; q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an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Important Files for this Demo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kestuff-windows-20130719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bfpgalink-20120621.t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busb-win32-bin-1.2.6.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[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onsole-2.00b148-Beta_32bit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[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crosoft  Visual Studio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 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teps for Working environment setup Demo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Download and install </a:t>
            </a:r>
            <a:r>
              <a:rPr b="1" lang="en-US" sz="1900" spc="-1" strike="noStrike">
                <a:solidFill>
                  <a:srgbClr val="007eea"/>
                </a:solidFill>
                <a:latin typeface="Corbel"/>
              </a:rPr>
              <a:t>Visual C++ Express 2010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f6d19"/>
                </a:solidFill>
                <a:latin typeface="Corbel"/>
              </a:rPr>
              <a:t>         </a:t>
            </a:r>
            <a:r>
              <a:rPr b="0" lang="en-US" sz="1900" spc="-1" strike="noStrike">
                <a:solidFill>
                  <a:srgbClr val="3f6d19"/>
                </a:solidFill>
                <a:latin typeface="Corbel"/>
              </a:rPr>
              <a:t>http://www.microsoft.com/visualstudio/en-us/products/2010- editions/express#Visual_Studio_2010_Express_Download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2.  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ownload and install </a:t>
            </a:r>
            <a:r>
              <a:rPr b="1" lang="en-US" sz="1800" spc="-1" strike="noStrike">
                <a:solidFill>
                  <a:srgbClr val="007eea"/>
                </a:solidFill>
                <a:latin typeface="Corbel"/>
              </a:rPr>
              <a:t>Microsoft Visual C++ 2010 Redistributable Package (x86)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http://www.microsoft.com/en-us/download/details.aspx?id=5555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Download "</a:t>
            </a:r>
            <a:r>
              <a:rPr b="1" lang="en-US" sz="1900" spc="-1" strike="noStrike">
                <a:solidFill>
                  <a:srgbClr val="007eea"/>
                </a:solidFill>
                <a:latin typeface="Corbel"/>
              </a:rPr>
              <a:t>Build Infrastructure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", windows version. This is the environment where we’ll work with the FPGALink library binari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ttp://www.makestuff.eu/wordpress/software/build-infrastructure/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On windows, unpack the downloaded archive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</a:rPr>
              <a:t>              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</a:rPr>
              <a:t>makestuff-win32-20111211.zip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in your own directory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n my case, I did this directly in C:\. This created C:\makestuff\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504000" indent="-504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0492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Download the latest FPGALink library binaries (at the time of writing this lab, the latest version is "</a:t>
            </a:r>
            <a:r>
              <a:rPr b="1" lang="en-US" sz="2800" spc="-1" strike="noStrike">
                <a:solidFill>
                  <a:srgbClr val="61b6ff"/>
                </a:solidFill>
                <a:latin typeface="Corbel"/>
              </a:rPr>
              <a:t>libfpgalink-20120621.tar.gz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ttp://www.makestuff.eu/wordpress/software/fpgalink/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npack it in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C:\makestuff\libs\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Download and install "</a:t>
            </a:r>
            <a:r>
              <a:rPr b="1" lang="en-US" sz="2800" spc="-1" strike="noStrike">
                <a:solidFill>
                  <a:srgbClr val="61b6ff"/>
                </a:solidFill>
                <a:latin typeface="Corbel"/>
              </a:rPr>
              <a:t>Console 2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ttp://sourceforge.net/projects/consol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npack the downloaded archive directly in   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C:\Program Files\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1 Create shortcut to C:\Program Files\Console2\Console.ex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2 Launch Console 2 and enter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:\makestuff\msys\bin\sh.exe --login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the "Shell" an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:\makestuff\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 startup dir box at </a:t>
            </a:r>
            <a:r>
              <a:rPr b="1" i="1" lang="en-US" sz="2000" spc="-1" strike="noStrike">
                <a:solidFill>
                  <a:srgbClr val="00b050"/>
                </a:solidFill>
                <a:latin typeface="Corbel"/>
              </a:rPr>
              <a:t>Edit-&gt;Settings-&gt;Consol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6. Download “</a:t>
            </a:r>
            <a:r>
              <a:rPr b="1" lang="en-US" sz="3000" spc="-1" strike="noStrike">
                <a:solidFill>
                  <a:srgbClr val="61b6ff"/>
                </a:solidFill>
                <a:latin typeface="Corbel"/>
              </a:rPr>
              <a:t>LibUSB-Win32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”.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   http://sourceforge.net/projects/libusb-win32/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lug in the Atlys board and turn the power on. Then run 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bin/inf-wizard.exe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, select your FPGA board, make a note (in our case, the Atlys board, that is 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1443, 0007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) of the vendor and product IDs and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 twice. Choose a location for the driver and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Save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. Click “</a:t>
            </a:r>
            <a:r>
              <a:rPr b="1" lang="en-US" sz="2000" spc="-1" strike="noStrike">
                <a:solidFill>
                  <a:srgbClr val="3f6d19"/>
                </a:solidFill>
                <a:latin typeface="Corbel"/>
              </a:rPr>
              <a:t>Install No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”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VHDL coding and .xsvf programming file generation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eate ISE project suppose “Lab8”. Now add Copy of Source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s Lis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op_level.vhd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omm_fpga_fx2.vhdl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op_level.ucf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Create a .bit by double click on Generate Programming 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8289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Creating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.xsvf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ide ISE  project Navigator, select </a:t>
            </a:r>
            <a:r>
              <a:rPr b="0" lang="en-US" sz="3000" spc="-1" strike="noStrike">
                <a:solidFill>
                  <a:srgbClr val="b0105c"/>
                </a:solidFill>
                <a:latin typeface="Corbel"/>
              </a:rPr>
              <a:t>Tools-&gt;iMPA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ISE iMPACT window should pop-up after a few secon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uble click on “</a:t>
            </a:r>
            <a:r>
              <a:rPr b="0" lang="en-US" sz="3000" spc="-1" strike="noStrike">
                <a:solidFill>
                  <a:srgbClr val="b0105c"/>
                </a:solidFill>
                <a:latin typeface="Corbel"/>
              </a:rPr>
              <a:t>Boundary Sca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” and then right  click at the white space as in the picture in the next slide and follow the pic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iMPACT.png"/>
          <p:cNvPicPr/>
          <p:nvPr/>
        </p:nvPicPr>
        <p:blipFill>
          <a:blip r:embed="rId1"/>
          <a:stretch/>
        </p:blipFill>
        <p:spPr>
          <a:xfrm>
            <a:off x="609480" y="533520"/>
            <a:ext cx="8398080" cy="46479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-32040" y="5638680"/>
            <a:ext cx="97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ow give the file name and the directory where your xsv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le to be saved then click </a:t>
            </a:r>
            <a:r>
              <a:rPr b="0" lang="en-US" sz="2800" spc="-1" strike="noStrike">
                <a:solidFill>
                  <a:srgbClr val="b0105c"/>
                </a:solidFill>
                <a:latin typeface="Corbel"/>
              </a:rPr>
              <a:t>save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23:22:38Z</dcterms:created>
  <dc:creator>zinabu</dc:creator>
  <dc:description/>
  <dc:language>en-US</dc:language>
  <cp:lastModifiedBy>zinabu</cp:lastModifiedBy>
  <dcterms:modified xsi:type="dcterms:W3CDTF">2014-03-08T17:14:34Z</dcterms:modified>
  <cp:revision>49</cp:revision>
  <dc:subject/>
  <dc:title>Hardware Lab</dc:title>
</cp:coreProperties>
</file>